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BBD-D868-40C2-AF1E-7E1FDA8D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F11-6725-4F14-9CDF-54926F83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2E0-995D-47EE-A4F6-A042176D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B02F-8552-4722-B386-0042C9F25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199-E447-4651-969F-928CE1BB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6172-A248-4CD4-8ACC-C2AA8CBD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9F8F-8DB3-4880-A79E-3E954849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BB7D-33C5-4437-823D-3D1C4609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8A6F-0F13-4B32-8B82-3F92CD1C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2E99-FCD2-4BF0-ADE5-D225ED64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506A-51B6-4DE0-BEE4-C11BF368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032-F1F9-4439-B46E-CA99D38F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62AF-4E4B-49D2-A7A9-35A56A52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9678-8BDC-448D-9E84-8D5FC96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69345-4ABB-44CB-B96F-3F9CFFF4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5BD2-41BE-446E-820D-B5AFE326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505F-5258-4D1E-9DCD-7F36678F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5FDE8-4DB1-4FCB-9804-E82CE3CDE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BD023F-5AE4-4233-BA44-3BFC6B70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6BC83-937C-47A1-8D0E-5116CB47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EC884-6E9D-45C3-97F4-B7E5C474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88BBB-D074-43DC-BE7E-00A7890F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707E-6059-46F8-9C93-EB099DF1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D487C-4FB2-4C77-ADB5-E687AB06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7B187-243D-44FA-9518-04C5D1D0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37169-81A7-44F9-B253-BAD8C1A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64F61-B5B4-4D5A-8B62-205D1E8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8278B-FB61-40A4-BD1B-858DD3C5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7C05A-354D-424D-B594-4C984C38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0CF72A-F4FE-4CBE-9C9F-4117CE6A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65DE-67B5-479A-8E04-0EBB7711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9FF9A-CAD7-42AF-BE0E-779D9B81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E3F44-EA5A-420D-AFFF-E5520483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85E-E93F-47E4-9C20-51FC2A5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7EB8-B88D-4DF9-A3BD-5096D94A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E6C5-9D3F-4343-8764-75DBCA6A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9652D-A9E3-42BE-A4EA-5A9FF207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AC74-E25C-4C3B-8E74-0921D969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CD431-111E-4143-AF47-326CD0B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7FFEB-50F1-4F36-A34A-2028FAE9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5A78A-CE68-47DD-8B97-8E61FDAE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DE7F3-911E-4637-9218-32A03AEC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5A2A-E653-4271-A57D-A6EDE039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EC13DB-B3CB-47DC-994D-7FFD4925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FDB-9829-47FE-8547-0F996480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A0D24-89F6-40E2-B77F-DA9138A3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6095B-6D6A-4973-980C-A829A7B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28A1F-5967-4340-920E-55BB6CB1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6DC2BB-83E3-4760-8EA2-E9B84CF5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0A1F9-C833-464D-AB54-87C0301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6F065-0B0E-41B1-9C74-D85B3776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8CC7BC-3502-4607-A8CD-58378035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A0A19F-0427-46F1-A197-FAC73322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D0626-AFD4-45E3-B611-77A22B0C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63BE0-8C26-4BD9-9C15-375A2DF2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BFF-DEAE-49D9-954E-F7B481E8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C087FE-E0AD-418E-AC4C-E747BD323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21C64D-94AC-4A81-8CF9-7F54AB6B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7191E-0BE5-4979-B2FC-6DE2376B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D954B-CC82-4CCB-AFE1-40A9CB20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CD9DE-68CD-41F0-BB42-DD5399BF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6CEC7-5A48-4CDF-9FCA-CB4B6C78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82B0B-FF1F-46A3-BB74-8A001742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98F92-F1B2-4783-B070-308E116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37ACF7-7F83-44D3-9540-033937AE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7B3738-39C1-41EE-AECF-BEEF3455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6CB-23DF-4AE1-86F1-74CC146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D3419D-27C9-4E1B-BC57-C24857F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0048D-3910-4D26-9FEE-493D41E8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0129B-4068-48C6-ACFB-60502E3D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FA329E-3D13-413A-B495-7490BFA8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592DD-B4BD-448F-8667-E65CCE26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08972-70AE-4CC4-A5AB-A08458EA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B3563-4B4D-4A55-91B6-23554402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6E2D6F-080E-4F29-ADA2-21103672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AFAFDE-6EBD-46D0-95DD-48F0D49C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F1B6BE-7507-4492-9DC5-2B397415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39F-600C-49F5-B130-79FE7B1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378A68-5F53-49BC-BA49-708B3304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32D8A2-FAD7-42CA-94FD-D2178BE3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2E74AB-75D1-4D09-B542-16E955F9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6C81F6-F901-428F-9A73-2FF74DC24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82F5C-7A33-4FFA-A5C6-05B932875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17EB-8F72-4FAA-8C4D-2C11548B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7EA6-7A43-4514-BF97-B2D2DE835D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2FFA-C40B-4824-A8A6-373616E84C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E72D-B23F-4288-87A9-5F4CFE4422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86D7-E7A5-4F7C-8DE3-987988C6074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6FC4-5359-4670-B4BB-DAD3F0FF44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8A0F-9EDD-4325-B0B3-C3E3EB526B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91C5-832B-40B3-AD58-AEABF975D27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34364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SORTAREA TABLOURILOR UNIDIMENSIONALE PRIN METODA SELECTIEI DIRECTE</a:t>
            </a:r>
            <a:br>
              <a:rPr sz="3600"/>
            </a:b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-SELECT SORT-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63528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Prof. Sofroni Iu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LICATIA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 se scrie un program care citeste un vector, il afiseaza, sorteaza descrescator elementele acestuia si apoi il reafiseaza sort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Century Schoolbook"/>
              </a:rPr>
              <a:t>DESCRIEREA METODE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77040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3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Prin această metodă se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aduce pe prima pozitie elementul cu valoarea cea mai mica din cele </a:t>
            </a:r>
            <a:r>
              <a:rPr b="0" i="1" lang="en-US" sz="2800" spc="-1" strike="noStrike">
                <a:solidFill>
                  <a:srgbClr val="575f6d"/>
                </a:solidFill>
                <a:latin typeface="Century Schoolbook"/>
              </a:rPr>
              <a:t>n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elemente, apoi pe pozitia a 2-aelementul cu cea mai mica valoare din ultimele </a:t>
            </a:r>
            <a:r>
              <a:rPr b="0" i="1" lang="en-US" sz="2800" spc="-1" strike="noStrike">
                <a:solidFill>
                  <a:srgbClr val="575f6d"/>
                </a:solidFill>
                <a:latin typeface="Century Schoolbook"/>
              </a:rPr>
              <a:t>n-1</a:t>
            </a:r>
            <a:r>
              <a:rPr b="1" i="1" lang="en-US" sz="2800" spc="-1" strike="noStrike">
                <a:solidFill>
                  <a:srgbClr val="575f6d"/>
                </a:solidFill>
                <a:latin typeface="Century Schoolbook"/>
              </a:rPr>
              <a:t>,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pe pozitia 3 elementul cel mai mic din ultimele </a:t>
            </a:r>
            <a:r>
              <a:rPr b="0" i="1" lang="en-US" sz="2800" spc="-1" strike="noStrike">
                <a:solidFill>
                  <a:srgbClr val="575f6d"/>
                </a:solidFill>
                <a:latin typeface="Century Schoolbook"/>
              </a:rPr>
              <a:t>n-2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s.a.m.d pana se ajunge la finalul vectorului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819600" y="12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ENUNŢUL PROBLEMEI:</a:t>
            </a:r>
            <a:br>
              <a:rPr sz="3400"/>
            </a:b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235224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Se dă un tablou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cu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elemente întregi. Să se realizeze sortarea crescătoare a elementelor tabloulu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565308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6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AutoShape 21"/>
          <p:cNvCxnSpPr/>
          <p:nvPr/>
        </p:nvCxnSpPr>
        <p:spPr>
          <a:xfrm flipH="1" rot="16200000">
            <a:off x="3345480" y="3574800"/>
            <a:ext cx="216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0" name="Text Box 2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Conector cotit 19"/>
          <p:cNvCxnSpPr/>
          <p:nvPr/>
        </p:nvCxnSpPr>
        <p:spPr>
          <a:xfrm flipH="1" rot="16200000">
            <a:off x="3915000" y="2998440"/>
            <a:ext cx="13320" cy="2305440"/>
          </a:xfrm>
          <a:prstGeom prst="bentConnector3">
            <a:avLst>
              <a:gd name="adj1" fmla="val 7713888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2" name="Conector cotit 47"/>
          <p:cNvCxnSpPr>
            <a:stCxn id="359" idx="2"/>
          </p:cNvCxnSpPr>
          <p:nvPr/>
        </p:nvCxnSpPr>
        <p:spPr>
          <a:xfrm flipH="1" rot="16200000">
            <a:off x="4499640" y="2348280"/>
            <a:ext cx="13320" cy="3456720"/>
          </a:xfrm>
          <a:prstGeom prst="bentConnector4">
            <a:avLst>
              <a:gd name="adj1" fmla="val 3000000"/>
              <a:gd name="adj2" fmla="val 100229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3" name="Conector cotit 52"/>
          <p:cNvCxnSpPr>
            <a:stCxn id="359" idx="2"/>
            <a:endCxn id="367" idx="2"/>
          </p:cNvCxnSpPr>
          <p:nvPr/>
        </p:nvCxnSpPr>
        <p:spPr>
          <a:xfrm flipH="1" rot="16200000">
            <a:off x="5074920" y="1772280"/>
            <a:ext cx="13320" cy="4609080"/>
          </a:xfrm>
          <a:prstGeom prst="bentConnector3">
            <a:avLst>
              <a:gd name="adj1" fmla="val 1800000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L -0.1349 0.10139 C -0.1632 0.12431 -0.20556 0.13565 -0.24965 0.13565 C -0.30018 0.13565 -0.34045 0.12431 -0.36875 0.10139 L -0.50399 0 E">
                                      <p:cBhvr>
                                        <p:cTn id="42" dur="20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47 L 0.13264 -0.09445 C 0.1606 -0.11574 0.20226 -0.12686 0.24584 -0.12686 C 0.29549 -0.12686 0.33507 -0.11574 0.36303 -0.09445 L 0.49619 -0.00047 E">
                                      <p:cBhvr>
                                        <p:cTn id="44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6"/>
          <p:cNvSpPr/>
          <p:nvPr/>
        </p:nvSpPr>
        <p:spPr>
          <a:xfrm>
            <a:off x="565308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9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2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6" name="Conector cotit 19"/>
          <p:cNvCxnSpPr>
            <a:stCxn id="378" idx="2"/>
            <a:endCxn id="377" idx="2"/>
          </p:cNvCxnSpPr>
          <p:nvPr/>
        </p:nvCxnSpPr>
        <p:spPr>
          <a:xfrm flipH="1" rot="16200000">
            <a:off x="4500360" y="3499920"/>
            <a:ext cx="13320" cy="1153440"/>
          </a:xfrm>
          <a:prstGeom prst="bentConnector3">
            <a:avLst>
              <a:gd name="adj1" fmla="val 1800000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7" name="Conector cotit 47"/>
          <p:cNvCxnSpPr>
            <a:stCxn id="378" idx="2"/>
            <a:endCxn id="376" idx="2"/>
          </p:cNvCxnSpPr>
          <p:nvPr/>
        </p:nvCxnSpPr>
        <p:spPr>
          <a:xfrm flipH="1" rot="16200000">
            <a:off x="5075280" y="2923920"/>
            <a:ext cx="13320" cy="2305440"/>
          </a:xfrm>
          <a:prstGeom prst="bentConnector3">
            <a:avLst>
              <a:gd name="adj1" fmla="val 5313888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88" name="Conector cotit 52"/>
          <p:cNvCxnSpPr>
            <a:stCxn id="378" idx="2"/>
            <a:endCxn id="383" idx="2"/>
          </p:cNvCxnSpPr>
          <p:nvPr/>
        </p:nvCxnSpPr>
        <p:spPr>
          <a:xfrm flipH="1" rot="16200000">
            <a:off x="5652000" y="2348280"/>
            <a:ext cx="13320" cy="3456720"/>
          </a:xfrm>
          <a:prstGeom prst="bentConnector3">
            <a:avLst>
              <a:gd name="adj1" fmla="val 7113888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46 L -0.10121 0.06273 C -0.12239 0.07708 -0.15416 0.08403 -0.18732 0.08403 C -0.22517 0.08403 -0.2552 0.07708 -0.27656 0.06273 L -0.37795 -0.00046 E">
                                      <p:cBhvr>
                                        <p:cTn id="77" dur="2000" fill="hold"/>
                                        <p:tgtEl>
                                          <p:spTgt spid="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0.10104 -0.11852 C 0.12222 -0.14514 0.15399 -0.15926 0.18715 -0.15926 C 0.225 -0.15926 0.25521 -0.14514 0.27639 -0.11852 L 0.37795 -0.00093 E">
                                      <p:cBhvr>
                                        <p:cTn id="79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565308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8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1" name="Conector cotit 19"/>
          <p:cNvCxnSpPr/>
          <p:nvPr/>
        </p:nvCxnSpPr>
        <p:spPr>
          <a:xfrm flipH="1" rot="16200000">
            <a:off x="5681520" y="3523680"/>
            <a:ext cx="13320" cy="1153440"/>
          </a:xfrm>
          <a:prstGeom prst="bentConnector3">
            <a:avLst>
              <a:gd name="adj1" fmla="val 1800000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02" name="Conector cotit 47"/>
          <p:cNvCxnSpPr/>
          <p:nvPr/>
        </p:nvCxnSpPr>
        <p:spPr>
          <a:xfrm flipH="1" rot="16200000">
            <a:off x="6256440" y="2911320"/>
            <a:ext cx="13680" cy="2305440"/>
          </a:xfrm>
          <a:prstGeom prst="bentConnector3">
            <a:avLst>
              <a:gd name="adj1" fmla="val 5313513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103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 L -0.06702 -0.14028 C -0.08108 -0.17199 -0.10208 -0.18889 -0.12396 -0.18889 C -0.14896 -0.18889 -0.16893 -0.17199 -0.18299 -0.14028 L -0.25 0 E">
                                      <p:cBhvr>
                                        <p:cTn id="105" dur="2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565308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8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6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Conector cotit 19"/>
          <p:cNvCxnSpPr/>
          <p:nvPr/>
        </p:nvCxnSpPr>
        <p:spPr>
          <a:xfrm flipH="1" rot="16200000">
            <a:off x="6797880" y="3536640"/>
            <a:ext cx="13320" cy="1152720"/>
          </a:xfrm>
          <a:prstGeom prst="bentConnector3">
            <a:avLst>
              <a:gd name="adj1" fmla="val 1800000"/>
            </a:avLst>
          </a:prstGeom>
          <a:ln w="349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44 L 0.03646 0.03634 C 0.04358 0.04375 0.05417 0.04792 0.0651 0.04792 C 0.07778 0.04792 0.08767 0.04375 0.09497 0.03634 L 0.12882 0.0044 E">
                                      <p:cBhvr>
                                        <p:cTn id="120" dur="2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-0.01458 L -0.0309 -0.04259 C -0.0382 -0.04954 -0.04983 -0.05116 -0.06111 -0.04931 C -0.07413 -0.04722 -0.08403 -0.04236 -0.09149 -0.0331 L -0.12292 0.0044 E">
                                      <p:cBhvr>
                                        <p:cTn id="122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VARIABILE NECESA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 – tabloul unidimension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n – lungimea tabloului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ux – pentru interschimbul elementelor (de acelaşi tip cu elementele tabloului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i – conto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 care se aduce valoarea minima din ultimele n-i-1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 – contor pentru parcurgerea ultimelor n-i-1 elemente pentru identificarea minimului; se initializeaza cu i+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ALGORITMUL 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(i=0;i&lt;n-1;i++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(j=i+1;j&lt;n;j++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(a[i]&gt;a[j]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{  aux =a[i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[i] =a[j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[j]=aux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6:32:01Z</dcterms:created>
  <dc:creator>Syseng</dc:creator>
  <dc:description/>
  <dc:language>en-US</dc:language>
  <cp:lastModifiedBy>Elev</cp:lastModifiedBy>
  <dcterms:modified xsi:type="dcterms:W3CDTF">2013-04-29T08:47:17Z</dcterms:modified>
  <cp:revision>30</cp:revision>
  <dc:subject/>
  <dc:title>SORTAREA PRIN METODA BULELOR</dc:title>
</cp:coreProperties>
</file>